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373473C-6072-45AA-94D4-8AF7DEBBB36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3B3DFC8-8858-486B-8A48-59F0B6683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B1EEBD-A3AF-458A-80F7-10D63D5435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CFE76E-FCCA-4395-9D09-00A119E802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B8E00B-B0D5-422C-AD90-65D1B1C907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263F901-5B63-4C23-9EFB-1CF65432565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3DBE07-BBC4-4BBD-A202-5FF1BD4802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animate this diagram to introduce the pieces one at a time (new reused l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C36CF4F-AEE5-4BFA-B9C2-FA6FF0EC7F6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96C286-3222-44D0-A003-32DEA9C2BF4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E41D18F-729D-40BF-95FB-6D48143BA9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DEE7D45-AA18-4AEB-B68F-9FE1E0B3AA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394B71C-B430-417F-84F0-9CC3D13582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5F50366-E7E8-4391-9A6C-17147B7B61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5067BCF-3726-4A3A-8F99-B428A72A54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7CEAAC6-A4E8-4CA3-8435-D8BEDC4BBA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032006-470A-47C9-B65C-403FA16A44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553F0C-7EFB-42B5-B8FF-122DFCDD0A8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6F7C24-C90F-4DB9-B35A-6C84D62A06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7026176-D099-470F-8ED3-CC8ED7331B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CD383D-33E0-48A1-947A-54FDC34393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234AD1-6D08-4B20-847C-CDC4F4920C2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7000" y="711360"/>
            <a:ext cx="4597200" cy="3447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7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3B176B8-A6CF-4423-95D5-9C6E11EB697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0C9D850-D0D5-49B6-8B8E-28D38348327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9014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SP0.1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ing and Counting Standard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601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 and LOC counting standards are needed to write the PSP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tandard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your language and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to make LOC counting eas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ding standard defines quality-oriented exit criteria for the code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oftware Size Meas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software size measures are us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he amount of product produced with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ort expended to project total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the total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 is measured in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ccurately relate size to effort, the different types of LOC in your program are counted separat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08200" y="1434960"/>
            <a:ext cx="3929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adds estimated and actual LOC in summary for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876"/>
              </a:spcAft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ypes of LOC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[B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d base [D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base [M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ed–new and base [A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[R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ew and changed [N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new re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5078520" y="1530360"/>
          <a:ext cx="306360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8520" y="1530360"/>
                    <a:ext cx="3063600" cy="43830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val 6"/>
          <p:cNvSpPr/>
          <p:nvPr/>
        </p:nvSpPr>
        <p:spPr>
          <a:xfrm>
            <a:off x="2854440" y="2487600"/>
            <a:ext cx="3555720" cy="3532320"/>
          </a:xfrm>
          <a:prstGeom prst="ellipse">
            <a:avLst/>
          </a:prstGeom>
          <a:solidFill>
            <a:srgbClr val="99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Oval 3"/>
          <p:cNvSpPr/>
          <p:nvPr/>
        </p:nvSpPr>
        <p:spPr>
          <a:xfrm>
            <a:off x="1079640" y="2487600"/>
            <a:ext cx="3555720" cy="3532320"/>
          </a:xfrm>
          <a:prstGeom prst="ellipse">
            <a:avLst/>
          </a:prstGeom>
          <a:solidFill>
            <a:srgbClr val="96969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2854440" y="2487600"/>
            <a:ext cx="3555720" cy="3532320"/>
          </a:xfrm>
          <a:prstGeom prst="ellipse">
            <a:avLst/>
          </a:prstGeom>
          <a:solidFill>
            <a:srgbClr val="99ff99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3746520" y="4254480"/>
            <a:ext cx="2666880" cy="1765440"/>
          </a:xfrm>
          <a:custGeom>
            <a:avLst/>
            <a:gdLst/>
            <a:ahLst/>
            <a:rect l="l" t="t" r="r" b="b"/>
            <a:pathLst>
              <a:path w="1680" h="1112">
                <a:moveTo>
                  <a:pt x="560" y="0"/>
                </a:moveTo>
                <a:lnTo>
                  <a:pt x="1680" y="0"/>
                </a:lnTo>
                <a:lnTo>
                  <a:pt x="1680" y="72"/>
                </a:lnTo>
                <a:lnTo>
                  <a:pt x="1672" y="184"/>
                </a:lnTo>
                <a:lnTo>
                  <a:pt x="1664" y="244"/>
                </a:lnTo>
                <a:lnTo>
                  <a:pt x="1652" y="316"/>
                </a:lnTo>
                <a:lnTo>
                  <a:pt x="1632" y="376"/>
                </a:lnTo>
                <a:lnTo>
                  <a:pt x="1600" y="456"/>
                </a:lnTo>
                <a:lnTo>
                  <a:pt x="1556" y="524"/>
                </a:lnTo>
                <a:lnTo>
                  <a:pt x="1516" y="600"/>
                </a:lnTo>
                <a:lnTo>
                  <a:pt x="1472" y="656"/>
                </a:lnTo>
                <a:lnTo>
                  <a:pt x="1440" y="704"/>
                </a:lnTo>
                <a:lnTo>
                  <a:pt x="1392" y="744"/>
                </a:lnTo>
                <a:lnTo>
                  <a:pt x="1352" y="784"/>
                </a:lnTo>
                <a:lnTo>
                  <a:pt x="1288" y="848"/>
                </a:lnTo>
                <a:lnTo>
                  <a:pt x="1216" y="904"/>
                </a:lnTo>
                <a:lnTo>
                  <a:pt x="1168" y="928"/>
                </a:lnTo>
                <a:lnTo>
                  <a:pt x="1120" y="968"/>
                </a:lnTo>
                <a:lnTo>
                  <a:pt x="1048" y="1000"/>
                </a:lnTo>
                <a:lnTo>
                  <a:pt x="992" y="1032"/>
                </a:lnTo>
                <a:lnTo>
                  <a:pt x="896" y="1064"/>
                </a:lnTo>
                <a:lnTo>
                  <a:pt x="832" y="1080"/>
                </a:lnTo>
                <a:lnTo>
                  <a:pt x="776" y="1096"/>
                </a:lnTo>
                <a:lnTo>
                  <a:pt x="720" y="1104"/>
                </a:lnTo>
                <a:lnTo>
                  <a:pt x="648" y="1112"/>
                </a:lnTo>
                <a:lnTo>
                  <a:pt x="576" y="1112"/>
                </a:lnTo>
                <a:lnTo>
                  <a:pt x="468" y="1112"/>
                </a:lnTo>
                <a:lnTo>
                  <a:pt x="376" y="1104"/>
                </a:lnTo>
                <a:lnTo>
                  <a:pt x="288" y="1084"/>
                </a:lnTo>
                <a:lnTo>
                  <a:pt x="216" y="1060"/>
                </a:lnTo>
                <a:lnTo>
                  <a:pt x="160" y="1040"/>
                </a:lnTo>
                <a:lnTo>
                  <a:pt x="96" y="1016"/>
                </a:lnTo>
                <a:lnTo>
                  <a:pt x="44" y="988"/>
                </a:lnTo>
                <a:lnTo>
                  <a:pt x="0" y="960"/>
                </a:lnTo>
                <a:lnTo>
                  <a:pt x="68" y="920"/>
                </a:lnTo>
                <a:lnTo>
                  <a:pt x="144" y="872"/>
                </a:lnTo>
                <a:lnTo>
                  <a:pt x="200" y="816"/>
                </a:lnTo>
                <a:lnTo>
                  <a:pt x="264" y="748"/>
                </a:lnTo>
                <a:lnTo>
                  <a:pt x="324" y="688"/>
                </a:lnTo>
                <a:lnTo>
                  <a:pt x="376" y="620"/>
                </a:lnTo>
                <a:lnTo>
                  <a:pt x="424" y="540"/>
                </a:lnTo>
                <a:lnTo>
                  <a:pt x="448" y="480"/>
                </a:lnTo>
                <a:lnTo>
                  <a:pt x="480" y="408"/>
                </a:lnTo>
                <a:lnTo>
                  <a:pt x="512" y="352"/>
                </a:lnTo>
                <a:lnTo>
                  <a:pt x="528" y="288"/>
                </a:lnTo>
                <a:lnTo>
                  <a:pt x="544" y="224"/>
                </a:lnTo>
                <a:lnTo>
                  <a:pt x="552" y="192"/>
                </a:lnTo>
                <a:lnTo>
                  <a:pt x="556" y="136"/>
                </a:lnTo>
                <a:lnTo>
                  <a:pt x="564" y="60"/>
                </a:lnTo>
                <a:lnTo>
                  <a:pt x="560" y="0"/>
                </a:lnTo>
                <a:close/>
              </a:path>
            </a:pathLst>
          </a:custGeom>
          <a:solidFill>
            <a:srgbClr val="57ccf1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ypes of Program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2857680" y="4254480"/>
            <a:ext cx="3543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6603840" y="2487600"/>
            <a:ext cx="685800" cy="1754280"/>
          </a:xfrm>
          <a:custGeom>
            <a:avLst/>
            <a:gdLst>
              <a:gd name="textAreaLeft" fmla="*/ 0 w 685800"/>
              <a:gd name="textAreaRight" fmla="*/ 247680 w 68580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404120" y="302256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&amp; Chang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054080" y="171468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 program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483080" y="171468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program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397160" y="405144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et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5025960" y="3606840"/>
            <a:ext cx="12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Freeform 14"/>
          <p:cNvSpPr/>
          <p:nvPr/>
        </p:nvSpPr>
        <p:spPr>
          <a:xfrm>
            <a:off x="2857680" y="4254480"/>
            <a:ext cx="1777680" cy="1536840"/>
          </a:xfrm>
          <a:custGeom>
            <a:avLst/>
            <a:gdLst/>
            <a:ahLst/>
            <a:rect l="l" t="t" r="r" b="b"/>
            <a:pathLst>
              <a:path w="1120" h="968">
                <a:moveTo>
                  <a:pt x="0" y="0"/>
                </a:moveTo>
                <a:lnTo>
                  <a:pt x="1120" y="0"/>
                </a:lnTo>
                <a:lnTo>
                  <a:pt x="1112" y="112"/>
                </a:lnTo>
                <a:lnTo>
                  <a:pt x="1104" y="244"/>
                </a:lnTo>
                <a:lnTo>
                  <a:pt x="1064" y="408"/>
                </a:lnTo>
                <a:lnTo>
                  <a:pt x="984" y="552"/>
                </a:lnTo>
                <a:lnTo>
                  <a:pt x="908" y="676"/>
                </a:lnTo>
                <a:lnTo>
                  <a:pt x="848" y="740"/>
                </a:lnTo>
                <a:lnTo>
                  <a:pt x="784" y="804"/>
                </a:lnTo>
                <a:lnTo>
                  <a:pt x="728" y="852"/>
                </a:lnTo>
                <a:lnTo>
                  <a:pt x="668" y="900"/>
                </a:lnTo>
                <a:lnTo>
                  <a:pt x="616" y="932"/>
                </a:lnTo>
                <a:lnTo>
                  <a:pt x="560" y="968"/>
                </a:lnTo>
                <a:lnTo>
                  <a:pt x="464" y="904"/>
                </a:lnTo>
                <a:lnTo>
                  <a:pt x="384" y="852"/>
                </a:lnTo>
                <a:lnTo>
                  <a:pt x="328" y="792"/>
                </a:lnTo>
                <a:lnTo>
                  <a:pt x="256" y="732"/>
                </a:lnTo>
                <a:lnTo>
                  <a:pt x="192" y="644"/>
                </a:lnTo>
                <a:lnTo>
                  <a:pt x="136" y="540"/>
                </a:lnTo>
                <a:lnTo>
                  <a:pt x="84" y="444"/>
                </a:lnTo>
                <a:lnTo>
                  <a:pt x="52" y="352"/>
                </a:lnTo>
                <a:lnTo>
                  <a:pt x="32" y="264"/>
                </a:lnTo>
                <a:lnTo>
                  <a:pt x="16" y="204"/>
                </a:lnTo>
                <a:lnTo>
                  <a:pt x="8" y="128"/>
                </a:lnTo>
                <a:lnTo>
                  <a:pt x="8" y="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070080" y="45975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ouch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083040" y="3632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98" name="Group 20"/>
          <p:cNvGrpSpPr/>
          <p:nvPr/>
        </p:nvGrpSpPr>
        <p:grpSpPr>
          <a:xfrm>
            <a:off x="4432320" y="2629080"/>
            <a:ext cx="1025280" cy="1028520"/>
            <a:chOff x="4432320" y="2629080"/>
            <a:chExt cx="1025280" cy="1028520"/>
          </a:xfrm>
        </p:grpSpPr>
        <p:sp>
          <p:nvSpPr>
            <p:cNvPr id="199" name="Oval 17"/>
            <p:cNvSpPr/>
            <p:nvPr/>
          </p:nvSpPr>
          <p:spPr>
            <a:xfrm>
              <a:off x="4432320" y="2629080"/>
              <a:ext cx="1003320" cy="10285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Text Box 18"/>
            <p:cNvSpPr/>
            <p:nvPr/>
          </p:nvSpPr>
          <p:spPr>
            <a:xfrm>
              <a:off x="4441680" y="2743200"/>
              <a:ext cx="101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Reuse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201" name="Text Box 13"/>
          <p:cNvSpPr/>
          <p:nvPr/>
        </p:nvSpPr>
        <p:spPr>
          <a:xfrm>
            <a:off x="4911840" y="4597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used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0800" y="1472760"/>
            <a:ext cx="7680240" cy="1197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31000"/>
          </a:bodyPr>
          <a:p>
            <a:pPr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fore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is is an enhancement, measure the size of the base program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B)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4040" indent="-644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new and changed LOC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New &amp; Chang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N)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263600" y="2786040"/>
            <a:ext cx="5892840" cy="2260800"/>
          </a:xfrm>
          <a:prstGeom prst="rect">
            <a:avLst/>
          </a:prstGeom>
          <a:ln w="0">
            <a:noFill/>
          </a:ln>
        </p:spPr>
      </p:pic>
      <p:sp>
        <p:nvSpPr>
          <p:cNvPr id="205" name="Line 5"/>
          <p:cNvSpPr/>
          <p:nvPr/>
        </p:nvSpPr>
        <p:spPr>
          <a:xfrm flipH="1">
            <a:off x="5423040" y="2432160"/>
            <a:ext cx="1908000" cy="47628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1390680" y="4336920"/>
            <a:ext cx="2819520" cy="790560"/>
          </a:xfrm>
          <a:prstGeom prst="line">
            <a:avLst/>
          </a:prstGeom>
          <a:ln w="25560">
            <a:solidFill>
              <a:srgbClr val="3399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9"/>
          <p:cNvGraphicFramePr/>
          <p:nvPr/>
        </p:nvGraphicFramePr>
        <p:xfrm>
          <a:off x="5230800" y="1535040"/>
          <a:ext cx="306396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0800" y="1535040"/>
                    <a:ext cx="3063960" cy="438300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2320" y="1447920"/>
            <a:ext cx="3929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fore development, distribute development time over project phases, us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 %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ime in Phas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previous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876"/>
              </a:spcAft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5"/>
          <p:cNvSpPr/>
          <p:nvPr/>
        </p:nvSpPr>
        <p:spPr>
          <a:xfrm>
            <a:off x="6426360" y="3562200"/>
            <a:ext cx="380880" cy="6796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Arc 8"/>
          <p:cNvSpPr/>
          <p:nvPr/>
        </p:nvSpPr>
        <p:spPr>
          <a:xfrm>
            <a:off x="2263680" y="2614680"/>
            <a:ext cx="4044960" cy="1352520"/>
          </a:xfrm>
          <a:custGeom>
            <a:avLst/>
            <a:gdLst/>
            <a:ahLst/>
            <a:rect l="l" t="t" r="r" b="b"/>
            <a:pathLst>
              <a:path fill="none" w="21600" h="24852">
                <a:moveTo>
                  <a:pt x="20912" y="24852"/>
                </a:moveTo>
                <a:cubicBezTo>
                  <a:pt x="9257" y="24481"/>
                  <a:pt x="0" y="14924"/>
                  <a:pt x="0" y="3263"/>
                </a:cubicBezTo>
                <a:cubicBezTo>
                  <a:pt x="-1" y="2170"/>
                  <a:pt x="82" y="1079"/>
                  <a:pt x="247" y="-1"/>
                </a:cubicBezTo>
              </a:path>
              <a:path stroke="0" w="21600" h="24852">
                <a:moveTo>
                  <a:pt x="20912" y="24852"/>
                </a:moveTo>
                <a:cubicBezTo>
                  <a:pt x="9257" y="24481"/>
                  <a:pt x="0" y="14924"/>
                  <a:pt x="0" y="3263"/>
                </a:cubicBezTo>
                <a:cubicBezTo>
                  <a:pt x="-1" y="2170"/>
                  <a:pt x="82" y="1079"/>
                  <a:pt x="247" y="-1"/>
                </a:cubicBezTo>
                <a:lnTo>
                  <a:pt x="21600" y="3263"/>
                </a:lnTo>
                <a:lnTo>
                  <a:pt x="20912" y="24852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706400" y="3863880"/>
            <a:ext cx="5892840" cy="22608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69680" y="1434960"/>
            <a:ext cx="64753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total program size and enter these LOC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LOC (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the deleted LOC and enter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eleted 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12672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the modified LOC and enter i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dified (M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H="1">
            <a:off x="6083280" y="2816280"/>
            <a:ext cx="1711440" cy="2795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6"/>
          <p:cNvSpPr/>
          <p:nvPr/>
        </p:nvSpPr>
        <p:spPr>
          <a:xfrm flipH="1">
            <a:off x="6190920" y="4351320"/>
            <a:ext cx="30636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Line 7"/>
          <p:cNvSpPr/>
          <p:nvPr/>
        </p:nvSpPr>
        <p:spPr>
          <a:xfrm flipV="1">
            <a:off x="7805880" y="2224080"/>
            <a:ext cx="0" cy="612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Line 8"/>
          <p:cNvSpPr/>
          <p:nvPr/>
        </p:nvSpPr>
        <p:spPr>
          <a:xfrm flipH="1" flipV="1">
            <a:off x="6161040" y="2209680"/>
            <a:ext cx="1649520" cy="129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4141800" y="2867040"/>
            <a:ext cx="2360520" cy="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6492960" y="2868480"/>
            <a:ext cx="3240" cy="148428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789440" y="3600360"/>
            <a:ext cx="1262160" cy="10098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01720" y="1461600"/>
            <a:ext cx="3813120" cy="481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fter development (continu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1192320" y="2878200"/>
            <a:ext cx="5892840" cy="226044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V="1">
            <a:off x="5092560" y="4889160"/>
            <a:ext cx="381240" cy="33012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4140360" y="4495320"/>
            <a:ext cx="850680" cy="82548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5652720" y="2933640"/>
            <a:ext cx="227160" cy="120672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3149640" y="2565360"/>
            <a:ext cx="2031840" cy="1346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98560" y="2119320"/>
            <a:ext cx="2892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the added LOC as A = T - B + D - R.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906480" y="5175360"/>
            <a:ext cx="3544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ew and Changed LO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s N = A + M.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722920" y="2165400"/>
            <a:ext cx="3166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 the reused LOC and enter in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eused (R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pace unde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u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910040" y="5197320"/>
            <a:ext cx="35388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 or estimate the number of new and changed LOC that will be added to the reuse library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ject Plan Summary -6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93360" y="1498680"/>
            <a:ext cx="7559640" cy="25653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77840" indent="-6336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 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7840" indent="-63360">
              <a:lnSpc>
                <a:spcPct val="85000"/>
              </a:lnSpc>
              <a:spcAft>
                <a:spcPts val="876"/>
              </a:spcAft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adds the actual reused, new and changed, total, and total new reuse LOC from this and all previous programs, and enter these data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 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906480" y="3525840"/>
            <a:ext cx="5892840" cy="2260440"/>
          </a:xfrm>
          <a:prstGeom prst="rect">
            <a:avLst/>
          </a:prstGeom>
          <a:ln w="0">
            <a:noFill/>
          </a:ln>
        </p:spPr>
      </p:pic>
      <p:sp>
        <p:nvSpPr>
          <p:cNvPr id="237" name="Arc 5"/>
          <p:cNvSpPr/>
          <p:nvPr/>
        </p:nvSpPr>
        <p:spPr>
          <a:xfrm>
            <a:off x="5716440" y="2693880"/>
            <a:ext cx="598680" cy="2247840"/>
          </a:xfrm>
          <a:custGeom>
            <a:avLst/>
            <a:gdLst/>
            <a:ahLst/>
            <a:rect l="l" t="t" r="r" b="b"/>
            <a:pathLst>
              <a:path fill="none" w="24451" h="21600">
                <a:moveTo>
                  <a:pt x="-1" y="188"/>
                </a:moveTo>
                <a:cubicBezTo>
                  <a:pt x="945" y="63"/>
                  <a:pt x="1897" y="-1"/>
                  <a:pt x="2851" y="0"/>
                </a:cubicBezTo>
                <a:cubicBezTo>
                  <a:pt x="14780" y="0"/>
                  <a:pt x="24451" y="9670"/>
                  <a:pt x="24451" y="21600"/>
                </a:cubicBezTo>
              </a:path>
              <a:path stroke="0" w="24451" h="21600">
                <a:moveTo>
                  <a:pt x="-1" y="188"/>
                </a:moveTo>
                <a:cubicBezTo>
                  <a:pt x="945" y="63"/>
                  <a:pt x="1897" y="-1"/>
                  <a:pt x="2851" y="0"/>
                </a:cubicBezTo>
                <a:cubicBezTo>
                  <a:pt x="14780" y="0"/>
                  <a:pt x="24451" y="9670"/>
                  <a:pt x="24451" y="21600"/>
                </a:cubicBezTo>
                <a:lnTo>
                  <a:pt x="2851" y="21600"/>
                </a:lnTo>
                <a:lnTo>
                  <a:pt x="-1" y="188"/>
                </a:lnTo>
                <a:close/>
              </a:path>
            </a:pathLst>
          </a:custGeom>
          <a:noFill/>
          <a:ln cap="rnd" w="1260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911160" y="3073320"/>
            <a:ext cx="489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The To Date data are used to calculate various process parameters in later PSP versions.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ions for PSP0.1 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9336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PSP0.1 project plan summary instructions for program size (LOC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JD’s scenario for assignment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4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data from JD’s 3A scenario to complete the program size (LOC) portion of JD’s PSP0.1 plan summ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14320" y="1450800"/>
            <a:ext cx="7626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incipal objective is to measure and estimate the size of the programs that you produce so that you can effectively plan and manag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PSP0.1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how to use the PSP0.1 process scripts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use PSP0.1 for assignments 2A and 3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450800"/>
            <a:ext cx="7765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s of PSP0.1 are to help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the size of the programs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 for types of LOC in the programs that you produ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accurate and precise size measu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w Process El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3520" y="1450800"/>
            <a:ext cx="7867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79280" indent="-14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new process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improvement proposal (PIP)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and 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9280" indent="-14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ject plan summary has been expanded to include software size measures and the distribution of plan time across ph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cess Script 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PSP0.1 process scripts in tables C21 to C24, pages 662-665, and complete the following exerci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ny new process inputs or outpu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phases and steps that have chang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prepared to discuss the use of the coding standard and process improvement proposal (PI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Process Script Addi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dditions to the PSP0.1 process scripts include new step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and reporting softwa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ng development time over planned project ph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 counting and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rding process problems and improvement ide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Improvement Proposal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8200" y="1447920"/>
            <a:ext cx="7967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improve your process, you will need to capture process problems and propose improvements for future refer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need to kn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problems you have encountered in using th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suggestions you have for process improv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observations and findings from doing the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7000"/>
                <a:tab algn="l" pos="2394000"/>
                <a:tab algn="l" pos="3591000"/>
                <a:tab algn="l" pos="4788000"/>
                <a:tab algn="l" pos="5985000"/>
                <a:tab algn="l" pos="7182000"/>
                <a:tab algn="l" pos="8379000"/>
                <a:tab algn="l" pos="9575640"/>
                <a:tab algn="l" pos="107726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Improvement Proposal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13960" y="1461600"/>
            <a:ext cx="3630600" cy="3684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complete a PIP form for each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IP holds process improvement informa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7880" indent="-279360">
              <a:buClr>
                <a:srgbClr val="ffffff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 and com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5224320" y="1533600"/>
          <a:ext cx="2998800" cy="41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4320" y="1533600"/>
                    <a:ext cx="2998800" cy="4199040"/>
                  </a:xfrm>
                  <a:prstGeom prst="rect">
                    <a:avLst/>
                  </a:prstGeom>
                  <a:ln w="2556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22T13:46:59Z</cp:lastPrinted>
  <dcterms:modified xsi:type="dcterms:W3CDTF">2018-09-06T00:16:56Z</dcterms:modified>
  <cp:revision>77</cp:revision>
  <dc:subject/>
  <dc:title>No Slide Title</dc:title>
</cp:coreProperties>
</file>